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8.png" ContentType="image/png"/>
  <Override PartName="/ppt/media/image17.png" ContentType="image/png"/>
  <Override PartName="/ppt/media/explode.wav" ContentType="audio/x-wav"/>
  <Override PartName="/ppt/media/image5.jpeg" ContentType="image/jpeg"/>
  <Override PartName="/ppt/media/image15.png" ContentType="image/png"/>
  <Override PartName="/ppt/media/laser.wav" ContentType="audio/x-wav"/>
  <Override PartName="/ppt/media/warning.wav" ContentType="audio/x-wav"/>
  <Override PartName="/ppt/media/image14.png" ContentType="image/png"/>
  <Override PartName="/ppt/media/image13.png" ContentType="image/png"/>
  <Override PartName="/ppt/media/hammer.wav" ContentType="audio/x-wav"/>
  <Override PartName="/ppt/media/image20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22.jpeg" ContentType="image/jpeg"/>
  <Override PartName="/ppt/media/image21.png" ContentType="image/png"/>
  <Override PartName="/ppt/media/image6.png" ContentType="image/png"/>
  <Override PartName="/ppt/media/image23.png" ContentType="image/png"/>
  <Override PartName="/ppt/media/image4.jpeg" ContentType="image/jpeg"/>
  <Override PartName="/ppt/media/sonar.wav" ContentType="audio/x-wav"/>
  <Override PartName="/ppt/media/image3.png" ContentType="image/png"/>
  <Override PartName="/ppt/media/geiger.wav" ContentType="audio/x-wav"/>
  <Override PartName="/ppt/media/image19.png" ContentType="image/png"/>
  <Override PartName="/ppt/media/space%20takeoff.wav" ContentType="audio/x-wav"/>
  <Override PartName="/ppt/media/image1.png" ContentType="image/png"/>
  <Override PartName="/ppt/media/image10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2.wmf" ContentType="image/x-wmf"/>
  <Override PartName="/ppt/media/chimes.wav" ContentType="audio/x-wav"/>
  <Override PartName="/ppt/media/image16.png" ContentType="image/png"/>
  <Override PartName="/ppt/media/camera.wav" ContentType="audio/x-wav"/>
  <Override PartName="/ppt/media/boing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2486-0FE5-465E-B13C-E86F6E557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8257-0F12-4B22-BCB5-B8C4D5913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356A-86E7-4CE3-B788-DE685F55C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7E3B-E366-4A64-A36B-75BF1DA0F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DB58-92F2-41AA-A9F3-141DBA4D2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3508-7EE4-479A-B4E0-DC8FAACAF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F195-DCC1-4B1C-B02C-4F7F65BED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917C-EC25-4B4C-A9EA-89BAE6B53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2661-6FBC-41C1-B72A-5477C907E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6D15-6F3A-4F1D-AA46-82738EF4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6AD4-5A3B-439B-9DD9-BAB0DF9EE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2044-BAF7-4FBF-BF27-C7572BD1C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5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© 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8F0-9D0D-4795-9CB6-DEAF7CE4CF77}" type="slidenum">
              <a:rPr b="1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audio" Target="../media/sonar.wav"/><Relationship Id="rId11" Type="http://schemas.openxmlformats.org/officeDocument/2006/relationships/audio" Target="../media/sonar.wav"/><Relationship Id="rId12" Type="http://schemas.openxmlformats.org/officeDocument/2006/relationships/audio" Target="../media/sonar.wav"/><Relationship Id="rId13" Type="http://schemas.openxmlformats.org/officeDocument/2006/relationships/audio" Target="../media/geiger.wav"/><Relationship Id="rId14" Type="http://schemas.openxmlformats.org/officeDocument/2006/relationships/audio" Target="../media/warning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sonar.wav"/><Relationship Id="rId6" Type="http://schemas.openxmlformats.org/officeDocument/2006/relationships/audio" Target="../media/explode.wav"/><Relationship Id="rId7" Type="http://schemas.openxmlformats.org/officeDocument/2006/relationships/audio" Target="../media/boing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boing.wav"/><Relationship Id="rId4" Type="http://schemas.openxmlformats.org/officeDocument/2006/relationships/audio" Target="../media/sonar.wav"/><Relationship Id="rId5" Type="http://schemas.openxmlformats.org/officeDocument/2006/relationships/audio" Target="../media/warning.wav"/><Relationship Id="rId6" Type="http://schemas.openxmlformats.org/officeDocument/2006/relationships/audio" Target="../media/warning.wav"/><Relationship Id="rId7" Type="http://schemas.openxmlformats.org/officeDocument/2006/relationships/audio" Target="../media/warning.wav"/><Relationship Id="rId8" Type="http://schemas.openxmlformats.org/officeDocument/2006/relationships/audio" Target="../media/warning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audio" Target="../media/hammer.wav"/><Relationship Id="rId5" Type="http://schemas.openxmlformats.org/officeDocument/2006/relationships/audio" Target="../media/geige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audio" Target="../media/whoosh.wav"/><Relationship Id="rId10" Type="http://schemas.openxmlformats.org/officeDocument/2006/relationships/audio" Target="../media/warning.wav"/><Relationship Id="rId11" Type="http://schemas.openxmlformats.org/officeDocument/2006/relationships/audio" Target="../media/hammer.wav"/><Relationship Id="rId12" Type="http://schemas.openxmlformats.org/officeDocument/2006/relationships/audio" Target="../media/warning.wav"/><Relationship Id="rId13" Type="http://schemas.openxmlformats.org/officeDocument/2006/relationships/audio" Target="../media/warnin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mmer.wav"/><Relationship Id="rId4" Type="http://schemas.openxmlformats.org/officeDocument/2006/relationships/audio" Target="../media/geiger.wav"/><Relationship Id="rId5" Type="http://schemas.openxmlformats.org/officeDocument/2006/relationships/audio" Target="../media/chimes.wav"/><Relationship Id="rId6" Type="http://schemas.openxmlformats.org/officeDocument/2006/relationships/audio" Target="../media/geiger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sonar.wav"/><Relationship Id="rId10" Type="http://schemas.openxmlformats.org/officeDocument/2006/relationships/audio" Target="../media/boing.wav"/><Relationship Id="rId11" Type="http://schemas.openxmlformats.org/officeDocument/2006/relationships/audio" Target="../media/warning.wav"/><Relationship Id="rId12" Type="http://schemas.openxmlformats.org/officeDocument/2006/relationships/audio" Target="../media/warning.wav"/><Relationship Id="rId13" Type="http://schemas.openxmlformats.org/officeDocument/2006/relationships/audio" Target="../media/warnin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audio" Target="../media/hammer.wav"/><Relationship Id="rId6" Type="http://schemas.openxmlformats.org/officeDocument/2006/relationships/audio" Target="../media/sona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explode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pace%20takeoff.wav"/><Relationship Id="rId4" Type="http://schemas.openxmlformats.org/officeDocument/2006/relationships/audio" Target="../media/boing.wav"/><Relationship Id="rId5" Type="http://schemas.openxmlformats.org/officeDocument/2006/relationships/audio" Target="../media/boin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sona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-828720" y="4365720"/>
          <a:ext cx="5763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4365720"/>
                    <a:ext cx="5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3708360" y="2205000"/>
            <a:ext cx="1152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57080" y="2637000"/>
            <a:ext cx="4330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GB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2276640"/>
            <a:ext cx="11509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ccff"/>
                </a:solidFill>
                <a:latin typeface="Symbol"/>
                <a:ea typeface="Symbol"/>
              </a:rPr>
              <a:t>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396360" y="476280"/>
          <a:ext cx="6476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6360" y="476280"/>
                    <a:ext cx="6476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51280" y="2133720"/>
            <a:ext cx="136836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16000" y="620640"/>
            <a:ext cx="7056360" cy="64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53737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08000" y="620640"/>
            <a:ext cx="5113440" cy="4968720"/>
            <a:chOff x="1908000" y="620640"/>
            <a:chExt cx="5113440" cy="4968720"/>
          </a:xfrm>
        </p:grpSpPr>
        <p:grpSp>
          <p:nvGrpSpPr>
            <p:cNvPr id="52" name=""/>
            <p:cNvGrpSpPr/>
            <p:nvPr/>
          </p:nvGrpSpPr>
          <p:grpSpPr>
            <a:xfrm>
              <a:off x="1908000" y="620640"/>
              <a:ext cx="5113440" cy="4968720"/>
              <a:chOff x="1908000" y="620640"/>
              <a:chExt cx="5113440" cy="4968720"/>
            </a:xfrm>
          </p:grpSpPr>
          <p:pic>
            <p:nvPicPr>
              <p:cNvPr id="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4000" y="765000"/>
                <a:ext cx="4537080" cy="468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1908000" y="620640"/>
                <a:ext cx="4897440" cy="28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124000" y="5302080"/>
                <a:ext cx="460836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8000" y="907920"/>
                <a:ext cx="434880" cy="453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27800" y="907920"/>
                <a:ext cx="593640" cy="446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700360" y="4653000"/>
              <a:ext cx="1604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ie Cu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979640" y="260280"/>
            <a:ext cx="4968720" cy="5904000"/>
            <a:chOff x="1979640" y="260280"/>
            <a:chExt cx="4968720" cy="5904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979640" y="260280"/>
              <a:ext cx="496872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66920" y="5732280"/>
              <a:ext cx="45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ntoine-Henri Becquerel (1852 – 19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916360" y="1268280"/>
          <a:ext cx="2808000" cy="274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1268280"/>
                    <a:ext cx="280800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457200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,  </a:t>
            </a:r>
            <a:r>
              <a:rPr b="0" lang="el-GR" sz="6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  and  </a:t>
            </a:r>
            <a:r>
              <a:rPr b="0" lang="en-GB" sz="6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GB" sz="6600" spc="-1" strike="noStrike">
                <a:solidFill>
                  <a:srgbClr val="ff0000"/>
                </a:solidFill>
                <a:latin typeface="Verdana"/>
              </a:rPr>
              <a:t> RADI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8F23-9365-4C2A-94FB-C74651F63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nar.wav"/>
                                        </p:tgtEl>
                                      </p:cMediaNode>
                                    </p:audio>
                                    <p:animMotion origin="layout" path="M -2.22222E-006 1.48148E-006 L 1.11025 -0.45833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onar.wav"/>
                                        </p:tgtEl>
                                      </p:cMediaNode>
                                    </p:audio>
                                    <p:animMotion origin="layout" path="M -2.22222E-006 1.85185E-006 L 1.18108 -0.00509 E">
                                      <p:cBhvr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nar.wav"/>
                                        </p:tgtEl>
                                      </p:cMediaNode>
                                    </p:audio>
                                    <p:animMotion origin="layout" path="M -0.03542 0.03774 L -1.15365 0.49977 E">
                                      <p:cBhvr>
                                        <p:cTn id="2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500"/>
                            </p:stCondLst>
                            <p:childTnLst>
                              <p:par>
                                <p:cTn id="52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4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3165840" y="-222480"/>
            <a:ext cx="10500480" cy="7911720"/>
            <a:chOff x="-3165840" y="-222480"/>
            <a:chExt cx="10500480" cy="7911720"/>
          </a:xfrm>
        </p:grpSpPr>
        <p:grpSp>
          <p:nvGrpSpPr>
            <p:cNvPr id="224" name=""/>
            <p:cNvGrpSpPr/>
            <p:nvPr/>
          </p:nvGrpSpPr>
          <p:grpSpPr>
            <a:xfrm>
              <a:off x="-3165840" y="-222480"/>
              <a:ext cx="10500480" cy="7911720"/>
              <a:chOff x="-3165840" y="-222480"/>
              <a:chExt cx="10500480" cy="79117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863360" y="1268280"/>
                <a:ext cx="5471280" cy="4083840"/>
                <a:chOff x="1863360" y="1268280"/>
                <a:chExt cx="5471280" cy="40838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863360" y="1268280"/>
                  <a:ext cx="5471280" cy="4083840"/>
                  <a:chOff x="1863360" y="1268280"/>
                  <a:chExt cx="5471280" cy="408384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1863360" y="1268280"/>
                    <a:ext cx="5471280" cy="4083840"/>
                    <a:chOff x="1863360" y="1268280"/>
                    <a:chExt cx="5471280" cy="4083840"/>
                  </a:xfrm>
                </p:grpSpPr>
                <p:graphicFrame>
                  <p:nvGraphicFramePr>
                    <p:cNvPr id="228" name=""/>
                    <p:cNvGraphicFramePr/>
                    <p:nvPr/>
                  </p:nvGraphicFramePr>
                  <p:xfrm>
                    <a:off x="1863360" y="126828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9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26828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404600" y="498672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57880" y="306900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083400" y="1358640"/>
                    <a:ext cx="3638160" cy="3321720"/>
                    <a:chOff x="3083400" y="1358640"/>
                    <a:chExt cx="3638160" cy="332172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V="1">
                      <a:off x="3083400" y="168264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014160" y="135864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5" name=""/>
                  <p:cNvSpPr/>
                  <p:nvPr/>
                </p:nvSpPr>
                <p:spPr>
                  <a:xfrm>
                    <a:off x="380340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273480" y="481752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33332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76840" y="481752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218560" y="481752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2366640" y="35719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6640" y="3068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366640" y="263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95000" y="170028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6640" y="407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3720" y="213192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-3165840" y="-222480"/>
                <a:ext cx="9079560" cy="7911720"/>
                <a:chOff x="-3165840" y="-222480"/>
                <a:chExt cx="9079560" cy="7911720"/>
              </a:xfrm>
            </p:grpSpPr>
            <p:sp>
              <p:nvSpPr>
                <p:cNvPr id="247" name=""/>
                <p:cNvSpPr/>
                <p:nvPr/>
              </p:nvSpPr>
              <p:spPr>
                <a:xfrm rot="3245400">
                  <a:off x="-360720" y="-61524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3125880" y="430164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016080" y="134100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8440" y="162864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132000" y="1844640"/>
            <a:ext cx="1944720" cy="2808360"/>
          </a:xfrm>
          <a:custGeom>
            <a:avLst/>
            <a:gdLst/>
            <a:ahLst/>
            <a:rect l="l" t="t" r="r" b="b"/>
            <a:pathLst>
              <a:path w="1225" h="1769">
                <a:moveTo>
                  <a:pt x="46" y="1724"/>
                </a:moveTo>
                <a:lnTo>
                  <a:pt x="862" y="817"/>
                </a:lnTo>
                <a:lnTo>
                  <a:pt x="998" y="544"/>
                </a:lnTo>
                <a:lnTo>
                  <a:pt x="1134" y="272"/>
                </a:lnTo>
                <a:lnTo>
                  <a:pt x="1180" y="136"/>
                </a:lnTo>
                <a:lnTo>
                  <a:pt x="1180" y="45"/>
                </a:lnTo>
                <a:lnTo>
                  <a:pt x="1225" y="0"/>
                </a:lnTo>
                <a:lnTo>
                  <a:pt x="0" y="0"/>
                </a:lnTo>
                <a:lnTo>
                  <a:pt x="0" y="1769"/>
                </a:lnTo>
              </a:path>
            </a:pathLst>
          </a:custGeom>
          <a:solidFill>
            <a:srgbClr val="0000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8320" y="204840"/>
            <a:ext cx="1918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79840" y="2290680"/>
            <a:ext cx="460440" cy="520560"/>
          </a:xfrm>
          <a:prstGeom prst="rect">
            <a:avLst/>
          </a:prstGeom>
          <a:solidFill>
            <a:srgbClr val="bbe0e3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2852640"/>
            <a:ext cx="289080" cy="289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2528-ECB8-4319-B2DF-2A84DE9A63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-3165840" y="-222480"/>
            <a:ext cx="10500480" cy="7911720"/>
            <a:chOff x="-3165840" y="-222480"/>
            <a:chExt cx="10500480" cy="7911720"/>
          </a:xfrm>
        </p:grpSpPr>
        <p:grpSp>
          <p:nvGrpSpPr>
            <p:cNvPr id="256" name=""/>
            <p:cNvGrpSpPr/>
            <p:nvPr/>
          </p:nvGrpSpPr>
          <p:grpSpPr>
            <a:xfrm>
              <a:off x="-3165840" y="-222480"/>
              <a:ext cx="10500480" cy="7911720"/>
              <a:chOff x="-3165840" y="-222480"/>
              <a:chExt cx="10500480" cy="79117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1863360" y="1268280"/>
                <a:ext cx="5471280" cy="4083840"/>
                <a:chOff x="1863360" y="1268280"/>
                <a:chExt cx="5471280" cy="40838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1863360" y="1268280"/>
                  <a:ext cx="5471280" cy="4083840"/>
                  <a:chOff x="1863360" y="1268280"/>
                  <a:chExt cx="5471280" cy="408384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1863360" y="1268280"/>
                    <a:ext cx="5471280" cy="4083840"/>
                    <a:chOff x="1863360" y="1268280"/>
                    <a:chExt cx="5471280" cy="4083840"/>
                  </a:xfrm>
                </p:grpSpPr>
                <p:graphicFrame>
                  <p:nvGraphicFramePr>
                    <p:cNvPr id="260" name=""/>
                    <p:cNvGraphicFramePr/>
                    <p:nvPr/>
                  </p:nvGraphicFramePr>
                  <p:xfrm>
                    <a:off x="1863360" y="126828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61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26828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04600" y="498672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 rot="16200000">
                    <a:off x="857880" y="306900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83400" y="1358640"/>
                    <a:ext cx="3638160" cy="3321720"/>
                    <a:chOff x="3083400" y="1358640"/>
                    <a:chExt cx="3638160" cy="332172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V="1">
                      <a:off x="3083400" y="168264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014160" y="135864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380340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273480" y="481752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333320" y="481752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76840" y="481752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18560" y="481752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2366640" y="35719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66640" y="3068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366640" y="263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95000" y="170028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366640" y="407664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23720" y="213192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-3165840" y="-222480"/>
                <a:ext cx="9079560" cy="7911720"/>
                <a:chOff x="-3165840" y="-222480"/>
                <a:chExt cx="9079560" cy="7911720"/>
              </a:xfrm>
            </p:grpSpPr>
            <p:sp>
              <p:nvSpPr>
                <p:cNvPr id="279" name=""/>
                <p:cNvSpPr/>
                <p:nvPr/>
              </p:nvSpPr>
              <p:spPr>
                <a:xfrm rot="3245400">
                  <a:off x="-360720" y="-61524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3125880" y="430164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3016080" y="134100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8440" y="162864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050120" y="204840"/>
            <a:ext cx="49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3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 emission, or electr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132000" y="1844640"/>
            <a:ext cx="1944720" cy="2808360"/>
            <a:chOff x="3132000" y="1844640"/>
            <a:chExt cx="1944720" cy="2808360"/>
          </a:xfrm>
        </p:grpSpPr>
        <p:sp>
          <p:nvSpPr>
            <p:cNvPr id="285" name=""/>
            <p:cNvSpPr/>
            <p:nvPr/>
          </p:nvSpPr>
          <p:spPr>
            <a:xfrm flipH="1">
              <a:off x="3132000" y="2776680"/>
              <a:ext cx="1849680" cy="1871640"/>
            </a:xfrm>
            <a:prstGeom prst="rtTriangle">
              <a:avLst/>
            </a:prstGeom>
            <a:solidFill>
              <a:srgbClr val="ff66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2000" y="1844640"/>
              <a:ext cx="1944720" cy="2808360"/>
            </a:xfrm>
            <a:custGeom>
              <a:avLst/>
              <a:gdLst/>
              <a:ahLst/>
              <a:rect l="l" t="t" r="r" b="b"/>
              <a:pathLst>
                <a:path w="1225" h="1769">
                  <a:moveTo>
                    <a:pt x="1179" y="590"/>
                  </a:moveTo>
                  <a:lnTo>
                    <a:pt x="0" y="1769"/>
                  </a:lnTo>
                  <a:lnTo>
                    <a:pt x="771" y="907"/>
                  </a:lnTo>
                  <a:lnTo>
                    <a:pt x="952" y="590"/>
                  </a:lnTo>
                  <a:lnTo>
                    <a:pt x="1088" y="363"/>
                  </a:lnTo>
                  <a:lnTo>
                    <a:pt x="1134" y="182"/>
                  </a:lnTo>
                  <a:lnTo>
                    <a:pt x="1225" y="0"/>
                  </a:lnTo>
                  <a:lnTo>
                    <a:pt x="1179" y="45"/>
                  </a:lnTo>
                  <a:lnTo>
                    <a:pt x="1179" y="590"/>
                  </a:lnTo>
                  <a:close/>
                </a:path>
              </a:pathLst>
            </a:custGeom>
            <a:solidFill>
              <a:srgbClr val="ff66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500720" y="3860640"/>
            <a:ext cx="1800000" cy="830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lectron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571640" y="3357720"/>
            <a:ext cx="36036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60EE-B88E-4791-9456-26DBD1EA0B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Alph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24000" y="907920"/>
                <a:ext cx="3830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635280" y="907920"/>
                <a:ext cx="1879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796000" y="98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+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712080"/>
            <a:ext cx="2371680" cy="128412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400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900000" y="5013360"/>
                <a:ext cx="7272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 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erg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987640" y="2781360"/>
            <a:ext cx="2371680" cy="103500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-1405080" y="2852640"/>
          <a:ext cx="115272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05080" y="2852640"/>
                    <a:ext cx="1152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1080" y="4000680"/>
          <a:ext cx="5032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1080" y="4000680"/>
                    <a:ext cx="503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ACBD-6E5D-4926-8B99-2357B424F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xit" presetID="4" presetSubtype="16">
                                  <p:stCondLst>
                                    <p:cond delay="1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"/>
                            </p:stCondLst>
                            <p:childTnLst>
                              <p:par>
                                <p:cTn id="580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1962 -0.02106 L 0.37796 -0.02106 E">
                                      <p:cBhvr>
                                        <p:cTn id="58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6284 -0.12616 L -0.14948 -0.12616 E">
                                      <p:cBhvr>
                                        <p:cTn id="58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600" y="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Beta (-)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5000"/>
            <a:ext cx="69483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A neutron in the nucleus turns into a proton, an electron and an antineutrino. The nucleus now has one more proton than it started with.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92360" y="4437000"/>
            <a:ext cx="287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177440" y="2565360"/>
            <a:ext cx="970920" cy="938160"/>
            <a:chOff x="4177440" y="2565360"/>
            <a:chExt cx="970920" cy="938160"/>
          </a:xfrm>
        </p:grpSpPr>
        <p:sp>
          <p:nvSpPr>
            <p:cNvPr id="306" name=""/>
            <p:cNvSpPr/>
            <p:nvPr/>
          </p:nvSpPr>
          <p:spPr>
            <a:xfrm>
              <a:off x="4859280" y="3214800"/>
              <a:ext cx="289080" cy="2887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177440" y="2565360"/>
              <a:ext cx="970920" cy="938160"/>
              <a:chOff x="4177440" y="2565360"/>
              <a:chExt cx="970920" cy="938160"/>
            </a:xfrm>
          </p:grpSpPr>
          <p:sp>
            <p:nvSpPr>
              <p:cNvPr id="308" name=""/>
              <p:cNvSpPr/>
              <p:nvPr/>
            </p:nvSpPr>
            <p:spPr>
              <a:xfrm>
                <a:off x="4859280" y="2854440"/>
                <a:ext cx="289080" cy="2887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177440" y="2565360"/>
                <a:ext cx="956160" cy="938160"/>
                <a:chOff x="4177440" y="2565360"/>
                <a:chExt cx="956160" cy="938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427640" y="3214800"/>
                  <a:ext cx="288720" cy="288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4177440" y="2565360"/>
                  <a:ext cx="956160" cy="875880"/>
                  <a:chOff x="4177440" y="2565360"/>
                  <a:chExt cx="956160" cy="8758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177440" y="2565360"/>
                    <a:ext cx="956160" cy="875880"/>
                    <a:chOff x="4177440" y="2565360"/>
                    <a:chExt cx="956160" cy="87588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4211640" y="2565360"/>
                      <a:ext cx="921960" cy="875880"/>
                      <a:chOff x="4211640" y="2565360"/>
                      <a:chExt cx="921960" cy="87588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248720" y="2834640"/>
                        <a:ext cx="380160" cy="3902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200" spc="-1" strike="noStrike">
                            <a:solidFill>
                              <a:srgbClr val="ffff00"/>
                            </a:solidFill>
                            <a:latin typeface="Arial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4211640" y="2565360"/>
                        <a:ext cx="921960" cy="875880"/>
                        <a:chOff x="4211640" y="2565360"/>
                        <a:chExt cx="921960" cy="875880"/>
                      </a:xfrm>
                    </p:grpSpPr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4211640" y="2565360"/>
                          <a:ext cx="921960" cy="875880"/>
                          <a:chOff x="4211640" y="2565360"/>
                          <a:chExt cx="921960" cy="875880"/>
                        </a:xfrm>
                      </p:grpSpPr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>
                            <a:off x="4572000" y="307008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4284720" y="263664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>
                            <a:off x="4572000" y="256536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4466160" y="269064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>
                            <a:off x="4753440" y="261756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>
                            <a:off x="4211640" y="299700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>
                            <a:off x="4753440" y="305100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4716360" y="2925720"/>
                          <a:ext cx="289080" cy="289080"/>
                        </a:xfrm>
                        <a:prstGeom prst="ellipse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177440" y="3051000"/>
                      <a:ext cx="380160" cy="39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4466160" y="2979000"/>
                    <a:ext cx="380160" cy="39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ffff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7" name=""/>
          <p:cNvGrpSpPr/>
          <p:nvPr/>
        </p:nvGrpSpPr>
        <p:grpSpPr>
          <a:xfrm>
            <a:off x="-1366200" y="3480480"/>
            <a:ext cx="1042200" cy="1102320"/>
            <a:chOff x="-1366200" y="3480480"/>
            <a:chExt cx="1042200" cy="1102320"/>
          </a:xfrm>
        </p:grpSpPr>
        <p:sp>
          <p:nvSpPr>
            <p:cNvPr id="328" name=""/>
            <p:cNvSpPr/>
            <p:nvPr/>
          </p:nvSpPr>
          <p:spPr>
            <a:xfrm>
              <a:off x="-612720" y="3931920"/>
              <a:ext cx="288720" cy="289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-1366200" y="3480480"/>
              <a:ext cx="956160" cy="1102320"/>
              <a:chOff x="-1366200" y="3480480"/>
              <a:chExt cx="956160" cy="1102320"/>
            </a:xfrm>
          </p:grpSpPr>
          <p:sp>
            <p:nvSpPr>
              <p:cNvPr id="330" name=""/>
              <p:cNvSpPr/>
              <p:nvPr/>
            </p:nvSpPr>
            <p:spPr>
              <a:xfrm>
                <a:off x="-1221840" y="3480480"/>
                <a:ext cx="380160" cy="39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-1366200" y="3644640"/>
                <a:ext cx="956160" cy="938160"/>
                <a:chOff x="-1366200" y="3644640"/>
                <a:chExt cx="956160" cy="938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-1116000" y="4294080"/>
                  <a:ext cx="288720" cy="288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-1366200" y="3644640"/>
                  <a:ext cx="956160" cy="875880"/>
                  <a:chOff x="-1366200" y="3644640"/>
                  <a:chExt cx="956160" cy="87588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-1366200" y="3644640"/>
                    <a:ext cx="956160" cy="875880"/>
                    <a:chOff x="-1366200" y="3644640"/>
                    <a:chExt cx="956160" cy="875880"/>
                  </a:xfrm>
                </p:grpSpPr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-1332000" y="3644640"/>
                      <a:ext cx="921960" cy="875880"/>
                      <a:chOff x="-1332000" y="3644640"/>
                      <a:chExt cx="921960" cy="87588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-1294920" y="3913920"/>
                        <a:ext cx="380160" cy="39024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200" spc="-1" strike="noStrike">
                            <a:solidFill>
                              <a:srgbClr val="ffff00"/>
                            </a:solidFill>
                            <a:latin typeface="Arial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7" name=""/>
                      <p:cNvGrpSpPr/>
                      <p:nvPr/>
                    </p:nvGrpSpPr>
                    <p:grpSpPr>
                      <a:xfrm>
                        <a:off x="-1332000" y="3644640"/>
                        <a:ext cx="921960" cy="875880"/>
                        <a:chOff x="-1332000" y="3644640"/>
                        <a:chExt cx="921960" cy="875880"/>
                      </a:xfrm>
                    </p:grpSpPr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-1332000" y="3644640"/>
                          <a:ext cx="921960" cy="875880"/>
                          <a:chOff x="-1332000" y="3644640"/>
                          <a:chExt cx="921960" cy="87588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>
                            <a:off x="-971640" y="414936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-1258920" y="371592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-971640" y="364464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-1077480" y="376992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-790200" y="369684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>
                            <a:off x="-1332000" y="4076280"/>
                            <a:ext cx="288720" cy="289080"/>
                          </a:xfrm>
                          <a:prstGeom prst="ellipse">
                            <a:avLst/>
                          </a:prstGeom>
                          <a:solidFill>
                            <a:srgbClr val="00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>
                            <a:off x="-790200" y="4130280"/>
                            <a:ext cx="380160" cy="39024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spcBef>
                                <a:spcPts val="75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GB" sz="1200" spc="-1" strike="noStrike">
                                <a:solidFill>
                                  <a:srgbClr val="ffff00"/>
                                </a:solidFill>
                                <a:latin typeface="Arial"/>
                              </a:rPr>
                              <a:t>+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-827280" y="4005000"/>
                          <a:ext cx="289080" cy="289080"/>
                        </a:xfrm>
                        <a:prstGeom prst="ellipse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-1366200" y="4130280"/>
                      <a:ext cx="380160" cy="390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"/>
                  <p:cNvSpPr/>
                  <p:nvPr/>
                </p:nvSpPr>
                <p:spPr>
                  <a:xfrm>
                    <a:off x="-1077480" y="4058280"/>
                    <a:ext cx="380160" cy="39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ffff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49" name=""/>
          <p:cNvGraphicFramePr/>
          <p:nvPr/>
        </p:nvGraphicFramePr>
        <p:xfrm>
          <a:off x="9612360" y="5157720"/>
          <a:ext cx="50328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2360" y="5157720"/>
                    <a:ext cx="5032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9612360" y="2852640"/>
          <a:ext cx="471600" cy="4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2360" y="2852640"/>
                    <a:ext cx="4716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067280" y="2492280"/>
            <a:ext cx="1295280" cy="1035000"/>
          </a:xfrm>
          <a:prstGeom prst="irregularSeal1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979640" y="3716280"/>
                <a:ext cx="51433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υ</m:t>
                            </m:r>
                          </m:e>
                        </m:ba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900000" y="4869000"/>
            <a:ext cx="76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uring a beta + plus decay, a proton in an atom's nucleus turns into a neutron, a positron and a neutr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79640" y="5734080"/>
                <a:ext cx="5256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3A28-E8B0-4AE1-A270-49CA2538F4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2.96296E-006 L -0.12395 2.96296E-006 E">
                                      <p:cBhvr>
                                        <p:cTn id="62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533 -0.01528 L -0.19097 -0.22246 E">
                                      <p:cBhvr>
                                        <p:cTn id="62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53924 -0.34769 L -0.2007 -0.19075 E">
                                      <p:cBhvr>
                                        <p:cTn id="62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835280" y="907920"/>
          <a:ext cx="619272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07920"/>
                    <a:ext cx="619272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95280" y="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 238 DECA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948360" y="981000"/>
            <a:ext cx="935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895800" y="1465200"/>
            <a:ext cx="91116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764480" y="890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48360" y="1442880"/>
            <a:ext cx="411120" cy="50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72440" y="1447920"/>
            <a:ext cx="457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50080" y="13651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978160" y="1916280"/>
            <a:ext cx="873000" cy="42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7760" y="183024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076360" y="2349360"/>
            <a:ext cx="91116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142880" y="2781360"/>
            <a:ext cx="908280" cy="442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75200" y="271764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241800" y="3213000"/>
            <a:ext cx="901440" cy="48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67280" y="314172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2720" y="3701880"/>
            <a:ext cx="449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9040" y="3687840"/>
            <a:ext cx="439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97120" y="361620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276360" y="3716280"/>
            <a:ext cx="863640" cy="41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3640" y="4149720"/>
            <a:ext cx="4395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27440" y="4135320"/>
            <a:ext cx="439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274560" y="4164120"/>
            <a:ext cx="86364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508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8640" y="137016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94680" y="136692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10120" y="2276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91040" y="363060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629160"/>
            <a:ext cx="1425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74840" y="40813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67280" y="407664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91000" y="408132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68360" y="5589720"/>
            <a:ext cx="2735280" cy="581400"/>
            <a:chOff x="468360" y="5589720"/>
            <a:chExt cx="2735280" cy="581400"/>
          </a:xfrm>
        </p:grpSpPr>
        <p:sp>
          <p:nvSpPr>
            <p:cNvPr id="390" name=""/>
            <p:cNvSpPr/>
            <p:nvPr/>
          </p:nvSpPr>
          <p:spPr>
            <a:xfrm>
              <a:off x="2195640" y="5950080"/>
              <a:ext cx="1008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60" y="55897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ALPH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51280" y="5589720"/>
            <a:ext cx="2521080" cy="581400"/>
            <a:chOff x="3851280" y="5589720"/>
            <a:chExt cx="2521080" cy="581400"/>
          </a:xfrm>
        </p:grpSpPr>
        <p:sp>
          <p:nvSpPr>
            <p:cNvPr id="393" name=""/>
            <p:cNvSpPr/>
            <p:nvPr/>
          </p:nvSpPr>
          <p:spPr>
            <a:xfrm>
              <a:off x="3851280" y="55897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cc"/>
                  </a:solidFill>
                  <a:latin typeface="Arial"/>
                </a:rPr>
                <a:t>BE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4000" y="5950080"/>
              <a:ext cx="100836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A323-23A8-4C3E-9B59-DFDCE0AFB5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0"/>
                            </p:stCondLst>
                            <p:childTnLst>
                              <p:par>
                                <p:cTn id="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7000"/>
                            </p:stCondLst>
                            <p:childTnLst>
                              <p:par>
                                <p:cTn id="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500"/>
                            </p:stCondLst>
                            <p:childTnLst>
                              <p:par>
                                <p:cTn id="728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950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50920" y="981000"/>
            <a:ext cx="5543640" cy="55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U-238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5 billion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Th-23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ff"/>
                </a:solidFill>
                <a:latin typeface="Arial"/>
              </a:rPr>
              <a:t>Pa-234</a:t>
            </a:r>
            <a:r>
              <a:rPr b="1" lang="en-GB" sz="16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2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U-23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0 0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Th-2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 0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Ra-22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0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33"/>
                </a:solidFill>
                <a:latin typeface="Arial"/>
              </a:rPr>
              <a:t>Rn-22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8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7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i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.0002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i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beta</a:t>
            </a: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6 million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Po-2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lph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b-2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 238 DECAY CHAIN  with emissions and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C1BB-0C42-4F35-BD8A-57C86DC87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6000"/>
                            </p:stCondLst>
                            <p:childTnLst>
                              <p:par>
                                <p:cTn id="8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8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9000"/>
                            </p:stCondLst>
                            <p:childTnLst>
                              <p:par>
                                <p:cTn id="8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-757080" y="4704840"/>
            <a:ext cx="50292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-757080" y="191628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93080" y="1628640"/>
            <a:ext cx="1366560" cy="4105440"/>
          </a:xfrm>
          <a:prstGeom prst="rect">
            <a:avLst/>
          </a:prstGeom>
          <a:solidFill>
            <a:srgbClr val="80808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-900000" y="2766960"/>
            <a:ext cx="503280" cy="390240"/>
          </a:xfrm>
          <a:prstGeom prst="ellipse">
            <a:avLst/>
          </a:prstGeom>
          <a:solidFill>
            <a:srgbClr val="a2f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00720" y="1628640"/>
            <a:ext cx="576000" cy="410544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1628640"/>
            <a:ext cx="1008360" cy="4105440"/>
          </a:xfrm>
          <a:prstGeom prst="rect">
            <a:avLst/>
          </a:prstGeom>
          <a:solidFill>
            <a:srgbClr val="ddddd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503280" y="492228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34920" y="513864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541440" y="4921200"/>
            <a:ext cx="503280" cy="412200"/>
          </a:xfrm>
          <a:prstGeom prst="ellipse">
            <a:avLst/>
          </a:pr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40360" y="98100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aper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98100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2mm of Alumin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92280"/>
            <a:ext cx="113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veral cm of 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882E-726C-4C26-9D87-8D33329843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.wav"/>
                                        </p:tgtEl>
                                      </p:cMediaNode>
                                    </p:audio>
                                    <p:animMotion origin="layout" path="M -4.72222E-006 3.7037E-006 L 0.575 -0.00162 E">
                                      <p:cBhvr>
                                        <p:cTn id="88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63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nar.wav"/>
                                        </p:tgtEl>
                                      </p:cMediaNode>
                                    </p:audio>
                                    <p:animMotion origin="layout" path="M 3.88889E-006 2.22222E-006 L 0.74027 -0.00162 E">
                                      <p:cBhvr>
                                        <p:cTn id="88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arning.wav"/>
                                        </p:tgtEl>
                                      </p:cMediaNode>
                                    </p:audio>
                                    <p:animMotion origin="layout" path="M -0.00399 0.00463 L 0.89774 0.00926 E">
                                      <p:cBhvr>
                                        <p:cTn id="89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arning.wav"/>
                                        </p:tgtEl>
                                      </p:cMediaNode>
                                    </p:audio>
                                    <p:animMotion origin="layout" path="M 5.55556E-007 4.81481E-006 L 1.09444 0.00439 E">
                                      <p:cBhvr>
                                        <p:cTn id="89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arning.wav"/>
                                        </p:tgtEl>
                                      </p:cMediaNode>
                                    </p:audio>
                                    <p:animMotion origin="layout" path="M -1.66667E-006 -2.22222E-006 L 0.90174 0.00463 E">
                                      <p:cBhvr>
                                        <p:cTn id="89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arning.wav"/>
                                        </p:tgtEl>
                                      </p:cMediaNode>
                                    </p:audio>
                                    <p:animMotion origin="layout" path="M -0.00399 0.00463 L 0.89774 0.00926 E">
                                      <p:cBhvr>
                                        <p:cTn id="89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028000" y="0"/>
            <a:ext cx="625320" cy="58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74160" y="112680"/>
            <a:ext cx="6081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NGE OF PARTICLES I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9680" y="863640"/>
            <a:ext cx="27367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LPH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836640"/>
            <a:ext cx="6553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A RANGE OF A FEW CM IN AIR: BECAUSE THE PARTICLES ARE CHARGED AND RELATIVELY MASSIVE, THEY INTERACT WITH AIR MOLECULES, PRODUCING UP TO 200 000 ION PAIRS PER CM OF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270828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TA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56000" y="2852640"/>
            <a:ext cx="583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A PARTICLES HAVE A RANGE OF A FEW METRES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440" y="397044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7640" y="4292640"/>
            <a:ext cx="403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 UNLIMITED RANGE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9280" y="5084640"/>
            <a:ext cx="27370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5300640"/>
            <a:ext cx="413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HAVES SIMILAR TO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8C5B-C076-4777-A8C5-10C12FF6FD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260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ff"/>
                </a:solidFill>
                <a:uFillTx/>
                <a:latin typeface="Arial"/>
              </a:rPr>
              <a:t>1896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cquere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ccidentall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discovered that uranyl crystals emitted invisible radiation when they exposed an enclosed photographic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700360" y="2133720"/>
            <a:ext cx="2531160" cy="1258920"/>
            <a:chOff x="2700360" y="2133720"/>
            <a:chExt cx="2531160" cy="1258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700360" y="2133720"/>
              <a:ext cx="136872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08000" y="249264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uranyl sa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124000" y="3141720"/>
            <a:ext cx="2519280" cy="647640"/>
            <a:chOff x="2124000" y="3141720"/>
            <a:chExt cx="2519280" cy="647640"/>
          </a:xfrm>
        </p:grpSpPr>
        <p:sp>
          <p:nvSpPr>
            <p:cNvPr id="70" name=""/>
            <p:cNvSpPr/>
            <p:nvPr/>
          </p:nvSpPr>
          <p:spPr>
            <a:xfrm>
              <a:off x="2124000" y="3141720"/>
              <a:ext cx="2519280" cy="647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6880" y="3371760"/>
              <a:ext cx="2015640" cy="14472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211280" y="2349360"/>
            <a:ext cx="3743640" cy="1008360"/>
            <a:chOff x="4211280" y="2349360"/>
            <a:chExt cx="3743640" cy="1008360"/>
          </a:xfrm>
        </p:grpSpPr>
        <p:sp>
          <p:nvSpPr>
            <p:cNvPr id="73" name=""/>
            <p:cNvSpPr/>
            <p:nvPr/>
          </p:nvSpPr>
          <p:spPr>
            <a:xfrm flipH="1">
              <a:off x="4211280" y="2781360"/>
              <a:ext cx="187308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234936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hotographic 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1640" y="5805360"/>
            <a:ext cx="2376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ecquerel’s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5052-5140-4D5C-8EDC-AEECCF4ABD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49228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1898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: Marie and Pierre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Curie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discovered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poloni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(Z=84) and </a:t>
            </a:r>
            <a:r>
              <a:rPr b="1" lang="en-US" sz="2400" spc="-1" strike="noStrike" u="sng">
                <a:solidFill>
                  <a:srgbClr val="00ff99"/>
                </a:solidFill>
                <a:uFillTx/>
                <a:latin typeface="Arial"/>
              </a:rPr>
              <a:t>radium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 (Z = 88), two new radio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62064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rie Curie discovered tha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orium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Z=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s a radioactiv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443640" y="189000"/>
            <a:ext cx="2090880" cy="1930320"/>
            <a:chOff x="6443640" y="189000"/>
            <a:chExt cx="2090880" cy="1930320"/>
          </a:xfrm>
        </p:grpSpPr>
        <p:graphicFrame>
          <p:nvGraphicFramePr>
            <p:cNvPr id="81" name=""/>
            <p:cNvGraphicFramePr/>
            <p:nvPr/>
          </p:nvGraphicFramePr>
          <p:xfrm>
            <a:off x="6443640" y="189000"/>
            <a:ext cx="2090880" cy="19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3640" y="189000"/>
                      <a:ext cx="2090880" cy="19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6659640" y="239400"/>
              <a:ext cx="1439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90 thor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284720" y="4005360"/>
            <a:ext cx="2231640" cy="2647440"/>
            <a:chOff x="4284720" y="4005360"/>
            <a:chExt cx="2231640" cy="2647440"/>
          </a:xfrm>
        </p:grpSpPr>
        <p:graphicFrame>
          <p:nvGraphicFramePr>
            <p:cNvPr id="85" name=""/>
            <p:cNvGraphicFramePr/>
            <p:nvPr/>
          </p:nvGraphicFramePr>
          <p:xfrm>
            <a:off x="4284720" y="4005360"/>
            <a:ext cx="2231640" cy="201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4720" y="4005360"/>
                      <a:ext cx="2231640" cy="20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4597920" y="6021360"/>
              <a:ext cx="164700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radium 8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as p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Madame Marie Curie"/>
          <p:cNvPicPr/>
          <p:nvPr/>
        </p:nvPicPr>
        <p:blipFill>
          <a:blip r:embed="rId5"/>
          <a:stretch/>
        </p:blipFill>
        <p:spPr>
          <a:xfrm>
            <a:off x="6948360" y="2349360"/>
            <a:ext cx="1643040" cy="18734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50920" y="189000"/>
            <a:ext cx="1517400" cy="2146320"/>
            <a:chOff x="250920" y="189000"/>
            <a:chExt cx="1517400" cy="2146320"/>
          </a:xfrm>
        </p:grpSpPr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51740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9480" y="1967040"/>
              <a:ext cx="1032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867-19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547640" y="4221000"/>
            <a:ext cx="2049480" cy="2060640"/>
            <a:chOff x="1547640" y="4221000"/>
            <a:chExt cx="2049480" cy="2060640"/>
          </a:xfrm>
        </p:grpSpPr>
        <p:graphicFrame>
          <p:nvGraphicFramePr>
            <p:cNvPr id="93" name=""/>
            <p:cNvGraphicFramePr/>
            <p:nvPr/>
          </p:nvGraphicFramePr>
          <p:xfrm>
            <a:off x="1547640" y="4221000"/>
            <a:ext cx="2049480" cy="206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221000"/>
                      <a:ext cx="204948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886040" y="5910120"/>
              <a:ext cx="1368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84 polon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5F7A-12F8-4387-B55B-B6A06099E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5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4932360" y="4653000"/>
            <a:ext cx="1750680" cy="1407600"/>
            <a:chOff x="4932360" y="4653000"/>
            <a:chExt cx="1750680" cy="1407600"/>
          </a:xfrm>
        </p:grpSpPr>
        <p:grpSp>
          <p:nvGrpSpPr>
            <p:cNvPr id="97" name=""/>
            <p:cNvGrpSpPr/>
            <p:nvPr/>
          </p:nvGrpSpPr>
          <p:grpSpPr>
            <a:xfrm>
              <a:off x="5024520" y="4997520"/>
              <a:ext cx="1542960" cy="1063080"/>
              <a:chOff x="5024520" y="4997520"/>
              <a:chExt cx="1542960" cy="10630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024520" y="4997520"/>
                <a:ext cx="1542960" cy="1063080"/>
                <a:chOff x="5024520" y="4997520"/>
                <a:chExt cx="1542960" cy="10630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5024520" y="5055840"/>
                  <a:ext cx="1542960" cy="1004760"/>
                  <a:chOff x="5024520" y="5055840"/>
                  <a:chExt cx="1542960" cy="10047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5024520" y="5055840"/>
                    <a:ext cx="1542960" cy="1004760"/>
                  </a:xfrm>
                  <a:prstGeom prst="rect">
                    <a:avLst/>
                  </a:prstGeom>
                  <a:solidFill>
                    <a:srgbClr val="808080"/>
                  </a:solidFill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214600" y="5236920"/>
                    <a:ext cx="1172880" cy="650160"/>
                  </a:xfrm>
                  <a:prstGeom prst="rect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5703120" y="4997520"/>
                  <a:ext cx="231120" cy="29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03" name=""/>
              <p:cNvGraphicFramePr/>
              <p:nvPr/>
            </p:nvGraphicFramePr>
            <p:xfrm>
              <a:off x="5606280" y="5641200"/>
              <a:ext cx="436680" cy="209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606280" y="5641200"/>
                        <a:ext cx="436680" cy="20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5" name=""/>
            <p:cNvGrpSpPr/>
            <p:nvPr/>
          </p:nvGrpSpPr>
          <p:grpSpPr>
            <a:xfrm>
              <a:off x="4932360" y="4653000"/>
              <a:ext cx="1750680" cy="142920"/>
              <a:chOff x="4932360" y="4653000"/>
              <a:chExt cx="1750680" cy="142920"/>
            </a:xfrm>
          </p:grpSpPr>
          <p:sp>
            <p:nvSpPr>
              <p:cNvPr id="106" name=""/>
              <p:cNvSpPr/>
              <p:nvPr/>
            </p:nvSpPr>
            <p:spPr>
              <a:xfrm>
                <a:off x="4932360" y="4653000"/>
                <a:ext cx="795600" cy="142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87440" y="4653000"/>
                <a:ext cx="795600" cy="142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867280" y="4220640"/>
            <a:ext cx="0" cy="1439640"/>
            <a:chOff x="5867280" y="4220640"/>
            <a:chExt cx="0" cy="1439640"/>
          </a:xfrm>
        </p:grpSpPr>
        <p:sp>
          <p:nvSpPr>
            <p:cNvPr id="109" name=""/>
            <p:cNvSpPr/>
            <p:nvPr/>
          </p:nvSpPr>
          <p:spPr>
            <a:xfrm flipV="1">
              <a:off x="5867280" y="4407840"/>
              <a:ext cx="0" cy="125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867280" y="4220640"/>
              <a:ext cx="0" cy="25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6000" y="1628640"/>
            <a:ext cx="2453760" cy="4640040"/>
            <a:chOff x="5796000" y="1628640"/>
            <a:chExt cx="2453760" cy="4640040"/>
          </a:xfrm>
        </p:grpSpPr>
        <p:sp>
          <p:nvSpPr>
            <p:cNvPr id="112" name=""/>
            <p:cNvSpPr/>
            <p:nvPr/>
          </p:nvSpPr>
          <p:spPr>
            <a:xfrm flipH="1">
              <a:off x="5796000" y="2255040"/>
              <a:ext cx="2453760" cy="401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80" y="721"/>
                  </a:moveTo>
                  <a:arcTo wR="10800" hR="10800" stAng="-4136610" swAng="41366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80" y="721"/>
                  </a:moveTo>
                  <a:arcTo wR="10800" hR="10800" stAng="-4136610" swAng="4136610"/>
                </a:path>
              </a:pathLst>
            </a:custGeom>
            <a:noFill/>
            <a:ln w="572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45160" y="1628640"/>
              <a:ext cx="1008000" cy="792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67200" y="1699920"/>
            <a:ext cx="1828440" cy="4929480"/>
            <a:chOff x="3967200" y="1699920"/>
            <a:chExt cx="1828440" cy="4929480"/>
          </a:xfrm>
        </p:grpSpPr>
        <p:sp>
          <p:nvSpPr>
            <p:cNvPr id="115" name=""/>
            <p:cNvSpPr/>
            <p:nvPr/>
          </p:nvSpPr>
          <p:spPr>
            <a:xfrm>
              <a:off x="3967200" y="2002680"/>
              <a:ext cx="1828440" cy="46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27" y="1041"/>
                  </a:moveTo>
                  <a:arcTo wR="10800" hR="10800" stAng="-3878030" swAng="38780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27" y="1041"/>
                  </a:moveTo>
                  <a:arcTo wR="10800" hR="10800" stAng="-3878030" swAng="3878030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787640" y="1699920"/>
              <a:ext cx="546120" cy="58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90960" y="1660680"/>
            <a:ext cx="5040" cy="2489040"/>
            <a:chOff x="5790960" y="1660680"/>
            <a:chExt cx="5040" cy="2489040"/>
          </a:xfrm>
        </p:grpSpPr>
        <p:sp>
          <p:nvSpPr>
            <p:cNvPr id="118" name=""/>
            <p:cNvSpPr/>
            <p:nvPr/>
          </p:nvSpPr>
          <p:spPr>
            <a:xfrm flipV="1">
              <a:off x="5796000" y="2133720"/>
              <a:ext cx="0" cy="20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790960" y="1660680"/>
              <a:ext cx="4680" cy="473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940000" y="5084640"/>
            <a:ext cx="2592360" cy="649080"/>
            <a:chOff x="5940000" y="5084640"/>
            <a:chExt cx="2592360" cy="649080"/>
          </a:xfrm>
        </p:grpSpPr>
        <p:sp>
          <p:nvSpPr>
            <p:cNvPr id="121" name=""/>
            <p:cNvSpPr/>
            <p:nvPr/>
          </p:nvSpPr>
          <p:spPr>
            <a:xfrm flipH="1">
              <a:off x="5940000" y="5261400"/>
              <a:ext cx="1778760" cy="4723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0440" y="5084640"/>
              <a:ext cx="9619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ff"/>
                  </a:solidFill>
                  <a:latin typeface="Arial"/>
                </a:rPr>
                <a:t>radium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32360" y="6021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ad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516360" y="4437000"/>
            <a:ext cx="2303640" cy="580680"/>
            <a:chOff x="6516360" y="4437000"/>
            <a:chExt cx="2303640" cy="580680"/>
          </a:xfrm>
        </p:grpSpPr>
        <p:sp>
          <p:nvSpPr>
            <p:cNvPr id="125" name=""/>
            <p:cNvSpPr/>
            <p:nvPr/>
          </p:nvSpPr>
          <p:spPr>
            <a:xfrm>
              <a:off x="7093080" y="4437000"/>
              <a:ext cx="172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ad collimating sl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16360" y="4653000"/>
              <a:ext cx="934920" cy="71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00720" y="2133720"/>
            <a:ext cx="4176720" cy="2089080"/>
            <a:chOff x="4500720" y="2133720"/>
            <a:chExt cx="4176720" cy="2089080"/>
          </a:xfrm>
        </p:grpSpPr>
        <p:sp>
          <p:nvSpPr>
            <p:cNvPr id="128" name=""/>
            <p:cNvSpPr/>
            <p:nvPr/>
          </p:nvSpPr>
          <p:spPr>
            <a:xfrm>
              <a:off x="4500720" y="2133720"/>
              <a:ext cx="2519280" cy="208908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48360" y="2997360"/>
              <a:ext cx="1729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3300"/>
                  </a:solidFill>
                  <a:latin typeface="Arial"/>
                </a:rPr>
                <a:t>Magnetic field acting inw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51280" y="1052640"/>
            <a:ext cx="3889440" cy="647640"/>
            <a:chOff x="3851280" y="1052640"/>
            <a:chExt cx="3889440" cy="647640"/>
          </a:xfrm>
        </p:grpSpPr>
        <p:sp>
          <p:nvSpPr>
            <p:cNvPr id="131" name=""/>
            <p:cNvSpPr/>
            <p:nvPr/>
          </p:nvSpPr>
          <p:spPr>
            <a:xfrm>
              <a:off x="3851280" y="1557360"/>
              <a:ext cx="3889440" cy="142920"/>
            </a:xfrm>
            <a:prstGeom prst="rect">
              <a:avLst/>
            </a:prstGeom>
            <a:solidFill>
              <a:srgbClr val="b1e9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95640" y="1052640"/>
              <a:ext cx="36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hoto film to detect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1901 Ernest Rutherford found three types of radiation were emitted from a               </a:t>
            </a: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ff"/>
                </a:solidFill>
                <a:latin typeface="Arial"/>
              </a:rPr>
              <a:t>radium source, by separating the beam with a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5360"/>
            <a:ext cx="3671640" cy="208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005360"/>
            <a:ext cx="403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alph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+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eta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-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Symbol"/>
                <a:ea typeface="Symbol"/>
              </a:rPr>
              <a:t>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amm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A3B8-C73A-417C-84F2-4595643FA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eig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ar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916360" y="1268280"/>
          <a:ext cx="32907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268280"/>
                    <a:ext cx="32907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32720" y="213372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emic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940000" y="2565360"/>
            <a:ext cx="1079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494172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t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92360" y="3860280"/>
            <a:ext cx="0" cy="863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765000"/>
            <a:ext cx="1440" cy="649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18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ucle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8400" y="243000"/>
            <a:ext cx="40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( =  number of protons + neutro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1390-3A13-4500-BC1B-F4DF7C37E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64360" y="6858000"/>
          <a:ext cx="5763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6858000"/>
                    <a:ext cx="5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lpha particles are helium nuclei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062920" y="7101000"/>
                <a:ext cx="1081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56536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Beta particles are high speed electron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970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Typical speed 0.1c; energy 5 MeV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6896520"/>
            <a:ext cx="595440" cy="13388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429760" y="7316640"/>
                <a:ext cx="7776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5772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"/>
              </a:rPr>
              <a:t>Typical speed 0.99c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Gamma rays are energetic photons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59640" y="7174080"/>
            <a:ext cx="504720" cy="909360"/>
            <a:chOff x="6659640" y="7174080"/>
            <a:chExt cx="504720" cy="909360"/>
          </a:xfrm>
        </p:grpSpPr>
        <p:sp>
          <p:nvSpPr>
            <p:cNvPr id="156" name=""/>
            <p:cNvSpPr/>
            <p:nvPr/>
          </p:nvSpPr>
          <p:spPr>
            <a:xfrm>
              <a:off x="6659640" y="7174080"/>
              <a:ext cx="504720" cy="909360"/>
            </a:xfrm>
            <a:prstGeom prst="ellipse">
              <a:avLst/>
            </a:prstGeom>
            <a:solidFill>
              <a:srgbClr val="008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728040" y="7326000"/>
            <a:ext cx="349560" cy="61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28040" y="7326000"/>
                      <a:ext cx="349560" cy="61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44000" y="7174080"/>
                <a:ext cx="647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501336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speed = c</a:t>
            </a:r>
            <a:r>
              <a:rPr b="1" lang="en-GB" sz="32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;  </a:t>
            </a:r>
            <a:r>
              <a:rPr b="1" lang="el-GR" sz="2400" spc="-1" strike="noStrike">
                <a:solidFill>
                  <a:srgbClr val="00ff99"/>
                </a:solidFill>
                <a:latin typeface="Arial"/>
                <a:ea typeface="Arial"/>
              </a:rPr>
              <a:t>λ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= 10</a:t>
            </a:r>
            <a:r>
              <a:rPr b="1" lang="en-GB" sz="2400" spc="-1" strike="noStrike" baseline="30000">
                <a:solidFill>
                  <a:srgbClr val="00ff99"/>
                </a:solidFill>
                <a:latin typeface="Arial"/>
              </a:rPr>
              <a:t>-11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– 10</a:t>
            </a:r>
            <a:r>
              <a:rPr b="1" lang="en-GB" sz="2400" spc="-1" strike="noStrike" baseline="30000">
                <a:solidFill>
                  <a:srgbClr val="00ff99"/>
                </a:solidFill>
                <a:latin typeface="Arial"/>
              </a:rPr>
              <a:t>-13</a:t>
            </a:r>
            <a:r>
              <a:rPr b="1" lang="en-GB" sz="2400" spc="-1" strike="noStrike">
                <a:solidFill>
                  <a:srgbClr val="00ff99"/>
                </a:solidFill>
                <a:latin typeface="Arial"/>
              </a:rPr>
              <a:t> m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B36C-BD41-4D45-A8B2-E21CD9673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nar.wav"/>
                                        </p:tgtEl>
                                      </p:cMediaNode>
                                    </p:audio>
                                    <p:animMotion origin="layout" path="M -3.88889E-006 3.7037E-007 L -0.00225 -0.90347 E">
                                      <p:cBhvr>
                                        <p:cTn id="304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563 -0.95972 E">
                                      <p:cBhvr>
                                        <p:cTn id="30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Motion origin="layout" path="M -2.22222E-006 7.40741E-007 L -0.00104 -0.67662 E">
                                      <p:cBhvr>
                                        <p:cTn id="3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563 -0.70764 E">
                                      <p:cBhvr>
                                        <p:cTn id="32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3.33333E-006 -0.43843 E">
                                      <p:cBhvr>
                                        <p:cTn id="34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1233 -0.06852 L -0.01181 -0.40648 E">
                                      <p:cBhvr>
                                        <p:cTn id="34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2276640"/>
            <a:ext cx="8572320" cy="3751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 atom becomes radioactive if its neutron/proton ratio is outside the “band of sta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ll elements with N &gt; 83 (&gt;Bi) are naturally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adi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n unstable nucleus can emit radioactive particles i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 to reach st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Beta Particl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     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Alpha Particl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     –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Gamma Ray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60280"/>
            <a:ext cx="453708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Radioactive atoms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oo man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 too many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 are just too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5AAC-570C-43EA-9F88-245DD1743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050920" y="1052640"/>
            <a:ext cx="5471280" cy="4083840"/>
            <a:chOff x="2050920" y="1052640"/>
            <a:chExt cx="5471280" cy="4083840"/>
          </a:xfrm>
        </p:grpSpPr>
        <p:grpSp>
          <p:nvGrpSpPr>
            <p:cNvPr id="164" name=""/>
            <p:cNvGrpSpPr/>
            <p:nvPr/>
          </p:nvGrpSpPr>
          <p:grpSpPr>
            <a:xfrm>
              <a:off x="2050920" y="1052640"/>
              <a:ext cx="5471280" cy="4083840"/>
              <a:chOff x="2050920" y="1052640"/>
              <a:chExt cx="5471280" cy="40838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050920" y="1052640"/>
                <a:ext cx="5471280" cy="4083840"/>
                <a:chOff x="2050920" y="1052640"/>
                <a:chExt cx="5471280" cy="4083840"/>
              </a:xfrm>
            </p:grpSpPr>
            <p:graphicFrame>
              <p:nvGraphicFramePr>
                <p:cNvPr id="166" name=""/>
                <p:cNvGraphicFramePr/>
                <p:nvPr/>
              </p:nvGraphicFramePr>
              <p:xfrm>
                <a:off x="2050920" y="1052640"/>
                <a:ext cx="5471280" cy="4083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6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50920" y="1052640"/>
                          <a:ext cx="5471280" cy="4083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8" name=""/>
                <p:cNvSpPr/>
                <p:nvPr/>
              </p:nvSpPr>
              <p:spPr>
                <a:xfrm>
                  <a:off x="4592160" y="4771080"/>
                  <a:ext cx="2121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ff"/>
                      </a:solidFill>
                      <a:latin typeface="Arial"/>
                    </a:rPr>
                    <a:t>proton number Z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rot="16200000">
                <a:off x="1045440" y="2853360"/>
                <a:ext cx="302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Arial"/>
                  </a:rPr>
                  <a:t>Neutron  number N = A-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270960" y="1143000"/>
                <a:ext cx="3638160" cy="3321720"/>
                <a:chOff x="3270960" y="1143000"/>
                <a:chExt cx="3638160" cy="332172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3270960" y="1467000"/>
                  <a:ext cx="2962080" cy="299772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201720" y="1143000"/>
                  <a:ext cx="70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9900"/>
                      </a:solidFill>
                      <a:latin typeface="Arial"/>
                    </a:rPr>
                    <a:t>N=Z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3990960" y="46018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1040" y="46018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20880" y="46018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64400" y="4601880"/>
                <a:ext cx="531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06120" y="4601880"/>
                <a:ext cx="61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554200" y="335628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4200" y="2853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4200" y="2421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2560" y="148464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4200" y="386100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191628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2979000" y="-438840"/>
            <a:ext cx="9080640" cy="7912440"/>
            <a:chOff x="-2979000" y="-438840"/>
            <a:chExt cx="9080640" cy="7912440"/>
          </a:xfrm>
        </p:grpSpPr>
        <p:sp>
          <p:nvSpPr>
            <p:cNvPr id="185" name=""/>
            <p:cNvSpPr/>
            <p:nvPr/>
          </p:nvSpPr>
          <p:spPr>
            <a:xfrm rot="3245400">
              <a:off x="-173520" y="-831960"/>
              <a:ext cx="3470040" cy="86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851" y="788"/>
                  </a:moveTo>
                  <a:arcTo wR="10800" hR="10800" stAng="-4078267" swAng="3028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851" y="788"/>
                  </a:moveTo>
                  <a:arcTo wR="10800" hR="10800" stAng="-4078267" swAng="3028071"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313440" y="4086000"/>
              <a:ext cx="279000" cy="34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Line of stable nuclides – stable nuclides lie on or very close to thi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765000"/>
            <a:ext cx="1800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3357720"/>
            <a:ext cx="23400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stability line follows N = Z line up to Z 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00" y="5376960"/>
            <a:ext cx="8893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Unstable nuclei lie either side of the stability line; the exact position determines the mode of de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A9B0-CD53-4810-BE02-D6B41E065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%20take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-3165840" y="-149400"/>
            <a:ext cx="10500480" cy="7911720"/>
            <a:chOff x="-3165840" y="-149400"/>
            <a:chExt cx="10500480" cy="7911720"/>
          </a:xfrm>
        </p:grpSpPr>
        <p:grpSp>
          <p:nvGrpSpPr>
            <p:cNvPr id="192" name=""/>
            <p:cNvGrpSpPr/>
            <p:nvPr/>
          </p:nvGrpSpPr>
          <p:grpSpPr>
            <a:xfrm>
              <a:off x="-3165840" y="-149400"/>
              <a:ext cx="10500480" cy="7911720"/>
              <a:chOff x="-3165840" y="-149400"/>
              <a:chExt cx="10500480" cy="791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1863360" y="1341360"/>
                <a:ext cx="5471280" cy="4083840"/>
                <a:chOff x="1863360" y="1341360"/>
                <a:chExt cx="5471280" cy="40838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63360" y="1341360"/>
                  <a:ext cx="5471280" cy="4083840"/>
                  <a:chOff x="1863360" y="1341360"/>
                  <a:chExt cx="5471280" cy="408384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863360" y="1341360"/>
                    <a:ext cx="5471280" cy="4083840"/>
                    <a:chOff x="1863360" y="1341360"/>
                    <a:chExt cx="5471280" cy="4083840"/>
                  </a:xfrm>
                </p:grpSpPr>
                <p:graphicFrame>
                  <p:nvGraphicFramePr>
                    <p:cNvPr id="196" name=""/>
                    <p:cNvGraphicFramePr/>
                    <p:nvPr/>
                  </p:nvGraphicFramePr>
                  <p:xfrm>
                    <a:off x="1863360" y="1341360"/>
                    <a:ext cx="5471280" cy="408384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197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63360" y="1341360"/>
                              <a:ext cx="5471280" cy="40838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404600" y="5059800"/>
                      <a:ext cx="2121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n numb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57880" y="3142080"/>
                    <a:ext cx="302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ff"/>
                        </a:solidFill>
                        <a:latin typeface="Arial"/>
                      </a:rPr>
                      <a:t>Neutron  number N = A-Z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083400" y="1431720"/>
                    <a:ext cx="3638160" cy="3321720"/>
                    <a:chOff x="3083400" y="1431720"/>
                    <a:chExt cx="3638160" cy="33217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flipV="1">
                      <a:off x="3083400" y="1755720"/>
                      <a:ext cx="2962080" cy="2997720"/>
                    </a:xfrm>
                    <a:prstGeom prst="line">
                      <a:avLst/>
                    </a:prstGeom>
                    <a:ln w="5724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6014160" y="1431720"/>
                      <a:ext cx="707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=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>
                    <a:off x="3803400" y="489060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73480" y="4890600"/>
                    <a:ext cx="5331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333320" y="4890600"/>
                    <a:ext cx="533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776840" y="4890600"/>
                    <a:ext cx="531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218560" y="4890600"/>
                    <a:ext cx="619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ff0000"/>
                        </a:solidFill>
                        <a:latin typeface="Arial"/>
                      </a:rPr>
                      <a:t>10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366640" y="364500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66640" y="3141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366640" y="2709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95000" y="1773360"/>
                  <a:ext cx="57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66640" y="4149720"/>
                  <a:ext cx="496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23720" y="2205000"/>
                  <a:ext cx="66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0000"/>
                      </a:solidFill>
                      <a:latin typeface="Arial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-3165840" y="-149400"/>
                <a:ext cx="9079560" cy="7911720"/>
                <a:chOff x="-3165840" y="-149400"/>
                <a:chExt cx="9079560" cy="7911720"/>
              </a:xfrm>
            </p:grpSpPr>
            <p:sp>
              <p:nvSpPr>
                <p:cNvPr id="215" name=""/>
                <p:cNvSpPr/>
                <p:nvPr/>
              </p:nvSpPr>
              <p:spPr>
                <a:xfrm rot="3245400">
                  <a:off x="-360720" y="-542160"/>
                  <a:ext cx="3470040" cy="86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851" y="788"/>
                      </a:moveTo>
                      <a:arcTo wR="10800" hR="10800" stAng="-4078267" swAng="30280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851" y="788"/>
                      </a:moveTo>
                      <a:arcTo wR="10800" hR="10800" stAng="-4078267" swAng="3028071"/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125880" y="4374720"/>
                  <a:ext cx="279000" cy="34920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3016080" y="1414080"/>
              <a:ext cx="17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0099"/>
                  </a:solidFill>
                  <a:latin typeface="Arial"/>
                </a:rPr>
                <a:t>stability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68440" y="1701720"/>
              <a:ext cx="720360" cy="503280"/>
            </a:xfrm>
            <a:prstGeom prst="line">
              <a:avLst/>
            </a:prstGeom>
            <a:ln w="3816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56520" y="8424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ff"/>
                </a:solidFill>
                <a:latin typeface="Arial"/>
              </a:rPr>
              <a:t>Alpha decay only occurs for Z &gt;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19840" y="1974960"/>
            <a:ext cx="863280" cy="2735280"/>
          </a:xfrm>
          <a:prstGeom prst="rect">
            <a:avLst/>
          </a:prstGeom>
          <a:solidFill>
            <a:srgbClr val="ff66ff">
              <a:alpha val="25000"/>
            </a:srgbClr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94320" y="3357720"/>
            <a:ext cx="358920" cy="459720"/>
          </a:xfrm>
          <a:prstGeom prst="rect">
            <a:avLst/>
          </a:prstGeom>
          <a:solidFill>
            <a:srgbClr val="ff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19280" y="3716280"/>
            <a:ext cx="289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461E-07CB-4005-BFC7-236353EB2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on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6:33:58Z</dcterms:created>
  <dc:creator>John</dc:creator>
  <dc:description/>
  <dc:language>en-US</dc:language>
  <cp:lastModifiedBy>Janet </cp:lastModifiedBy>
  <dcterms:modified xsi:type="dcterms:W3CDTF">2005-05-21T01:03:01Z</dcterms:modified>
  <cp:revision>45</cp:revision>
  <dc:subject/>
  <dc:title>Slide 1</dc:title>
</cp:coreProperties>
</file>